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452E-53AD-484D-BD8F-9B70A583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B2B-D606-4BA8-9825-675D25B0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597 #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CBF8-2111-4782-94B7-DABAE480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does not depend on intensity of the light (as predicted by Classical the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hotocurrent does depend on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ifferent for differ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independent of intensity (e- have a maximum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dependent of intens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pendent of frequency (maximum kinetic energy depends on 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E4E-0AFD-4711-9910-4CC84891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604 #11, 13,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8D77-8482-43FC-82BD-2755D7FA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5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0.2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6.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F7BC-9187-4F54-96A2-EB131609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D796-4CAC-49BB-BFA9-0A98D2B2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BAF0-4B54-4DA5-8E0C-F6C66216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C01B-4565-4B49-BE0A-6620A536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1B51-FF92-4A76-B0D8-482E1342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9082-6388-4696-A372-D456EEF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25E-659D-41CD-B44E-B51716B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031-F0D0-41F4-AAC3-FA20792B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FEC-D300-40AB-B53D-AD8F1361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53B0-F5DF-4596-AD4D-C04469E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3B11-27B3-42AA-B09D-BD8CC76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C0F5-7D2D-45A5-BA53-40A801BB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8704-07B0-4CBC-9695-F95DA9C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522-9CDB-43D3-A007-EAF20D2E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82C-B854-4659-9CD8-501682A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A9D7-667B-4964-B9DC-B5691918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95A1-CE23-48C8-9C67-344E37A8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0054-56C6-43D2-8DDB-465BAB1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EB09-57A9-4EBA-AFDC-38903BB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C4B9-13B2-4949-A471-A5E6A9BE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7AC9-F525-4E8E-AFE5-0AEC78A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1BA7-E4F8-4FDA-82B5-71450ED1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09BD-61BC-4A69-9769-E09E830F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25C0-2C70-4E74-B36D-1B9BCF0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413-A6C3-45B9-933D-827EA8E97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D5E-7A70-4126-913E-94E83C973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Photoelectric Eff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09320" y="42667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xtbook:  12.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:  pg. 608 #2, 8, 12 - 1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(a) Calculate the momentum of a photon of wavelength 2.5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alculate the speed of an electron having the same momentum as the photon in (a).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.1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Calculate the kinetic energy of the electron. How does it compare with the energy of the phot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 (a) Calculate the energy of a single microwave quantum of wavelength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0 c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alculate how many quanta of 10.0-cm microwave energy would be required to raise the temperature of 250.0 mL of water from 20°C to the boiling point, given that the specific heat capacity of wat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kg?°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16160" y="457200"/>
            <a:ext cx="4543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ck’s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0, German physicist Max Planck suggested that light travels in packe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ckets define the amount of energy transferred by a given frequency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ostulate of quantum mechanical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is the smallest amount or quantum of energy (in joules) that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ransferred for a given wavelength of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219320" y="4952880"/>
          <a:ext cx="91440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952880"/>
                    <a:ext cx="9144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218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if frequency of light is greater than threshold frequency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unction, W, is the minimum amount of energy needed for the electrons to be emitted from meta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mage1"/>
          <p:cNvPicPr/>
          <p:nvPr/>
        </p:nvPicPr>
        <p:blipFill>
          <a:blip r:embed="rId1"/>
          <a:stretch/>
        </p:blipFill>
        <p:spPr>
          <a:xfrm>
            <a:off x="457200" y="213372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4343400" y="2084400"/>
            <a:ext cx="3733920" cy="27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47720" cy="1666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533520" y="12193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tein received the Nobel Prize in physics in 19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made of particles called ph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ho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eV = 1.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= 1V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requires energy to escape surface of metal, left over energy provide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 -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Work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 6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Calculate the minimum frequency of the photon required to eject electrons from a metal whose work function is 2.4 eV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Barium has a work function of 2.48 eV. What is the maximum kinetic energy of the ejected electrons if the metal is illuminated at 450 nm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Light of frequency 8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z illuminates a surface whose work function is 1.2 eV.   What is the maximum speed with which an electron reaches the pl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43600" y="541008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-coupled device (CC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emiconductor chip with an array of light-sensitive cells, used for converting light images into electrica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6404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0" y="5446800"/>
            <a:ext cx="5867280" cy="139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04920" y="1600200"/>
            <a:ext cx="5638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ar 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-res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of a Photon: The Compt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3: American physicist A.H. Compton directed a beam of high energy X-ray photons at a thin metal fo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ton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cattering of lower – frequency photons by high-energy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200400" cy="264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200400" cy="23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6"/>
          <p:cNvGraphicFramePr/>
          <p:nvPr/>
        </p:nvGraphicFramePr>
        <p:xfrm>
          <a:off x="4572000" y="5410080"/>
          <a:ext cx="144792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10080"/>
                    <a:ext cx="1447920" cy="135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(pg 608 - 6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ow that the units of       are units of momentum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se Planck’s quantum theory to suggest a reason why no photoelectrons are released from a surface until light of sufficiently high frequency is incident on the surfa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alculate the energy of an ultraviolet photon, of wavelength 122 nm, in both joules and electron v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876920" y="1828800"/>
          <a:ext cx="3427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828800"/>
                    <a:ext cx="342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What wavelength of light is required for ejecting photoelectrons from a tungsten surfac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.52 eV) if the maximum kinetic energy of the electrons is 1.68 eV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When light of wavelength of 482 nm falls onto a certain metallic surface, a retarding potential of 1.2V proves just sufficient to make the current passing through the phototube fall to zero. Calculate the work function of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0:37:04Z</dcterms:created>
  <dc:creator>NHAT LE</dc:creator>
  <dc:description/>
  <dc:language>en-US</dc:language>
  <cp:lastModifiedBy>Katie</cp:lastModifiedBy>
  <dcterms:modified xsi:type="dcterms:W3CDTF">2014-07-21T01:33:57Z</dcterms:modified>
  <cp:revision>40</cp:revision>
  <dc:subject/>
  <dc:title>Slide 1</dc:title>
</cp:coreProperties>
</file>